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6398-349F-46C3-901B-FAD3E90A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43D3-4A43-4A82-90FE-15CB1EAF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58E0-01E2-4422-B399-178E014C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9C53-34A1-4EE4-8FFF-9A35EA0A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EB56-47C8-4BB0-B007-5AE197FF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B4EB-4B67-4644-8EAD-3CDC33F4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CE7D-06DA-4671-B18A-B919875F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726C-CD7D-4B6C-8F5B-43D935D9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320E-7D71-4CF8-9B42-0E50D2A1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7C91-F047-48F5-B721-20C3C146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0F43-F59A-42A8-8AF6-8D3A814E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2BEE-4731-4C6D-9988-35DFB9D7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51AF-B8E5-496B-947A-3561A24A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7A9C-8098-443E-96D5-C5DBB364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A63C-0954-4092-A838-3B1C9F71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7346-6DCF-4ADD-8232-581A966E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65BA-F0C8-4CB1-BFCD-62D61A52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6EFF-8942-4322-891C-B7A43A28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BE2E9-67B4-4ED2-A940-F3432F94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BBD3-90F8-4D49-86FF-4D278C21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1A14-822B-4702-9622-AA05F6A6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3340-193B-4AF7-989F-C7279B44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1D11C-1D4B-49C8-9EF7-471CD390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AACC-4216-4955-A48A-DB93A16B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99DE-4703-4F4A-B4E3-484170968C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43D8-50F6-4BEE-8E39-4FC036888F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erb Tense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ing Verbs to Express Different 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t tense of 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past-tense form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b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hike) many miles through the woods of Main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ik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i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i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t tense of 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past-tense form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b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hike) many miles through the woods of Main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ik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i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hi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gular past-participle ending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particip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 verb that is used with a helping verb, such a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all regular verbs, the past-participle form is the same as the past tense form. It uses a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d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tens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 visited my cousi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participl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 have visited my cousi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t participle of 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form of the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weekday night, I ha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study) for three hou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stu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tud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stud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t participle of 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form of the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weekday night, I ha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study) for three hou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stu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stud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stud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r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rregular verb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not follow the regular pattern for endings. The following are some common irregular verbs: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, bring, do, get, give, go, have/has, make, say, see, speak, take,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r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143000"/>
          <a:ext cx="8229600" cy="5194440"/>
        </p:xfrm>
        <a:graphic>
          <a:graphicData uri="http://schemas.openxmlformats.org/drawingml/2006/table">
            <a:tbl>
              <a:tblPr/>
              <a:tblGrid>
                <a:gridCol w="2362320"/>
                <a:gridCol w="2361960"/>
                <a:gridCol w="35053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used with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/hav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 (am/are/i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ou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o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v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/h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ore ir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143000"/>
          <a:ext cx="8229600" cy="5170320"/>
        </p:xfrm>
        <a:graphic>
          <a:graphicData uri="http://schemas.openxmlformats.org/drawingml/2006/table">
            <a:tbl>
              <a:tblPr/>
              <a:tblGrid>
                <a:gridCol w="2362320"/>
                <a:gridCol w="2361960"/>
                <a:gridCol w="35053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used with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/ha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ea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o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o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k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o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it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esent tense of two ir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828800"/>
          <a:ext cx="8686800" cy="3778200"/>
        </p:xfrm>
        <a:graphic>
          <a:graphicData uri="http://schemas.openxmlformats.org/drawingml/2006/table">
            <a:tbl>
              <a:tblPr/>
              <a:tblGrid>
                <a:gridCol w="2209680"/>
                <a:gridCol w="2362320"/>
                <a:gridCol w="2209680"/>
                <a:gridCol w="190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, she, it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editor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th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editors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th and Christina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, she, it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the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form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___ (be) happy that you have decided to take the jo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verb tens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 tense tell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wh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 action happened: in the past, in the present, or in the futur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s change their form and use the helping verb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indicate different te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sent tens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ick hikes every weeken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tens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e hiked ten miles last weeken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uture tens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e will hike again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the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form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___ (be) happy that you have decided to take the jo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the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form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enter the building,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have) to get a pas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the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form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enter the building,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have) to get a pas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h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rregular verbs in the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rregular verb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not use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ding for the past-tense form. They show the past tense with a change in spelling or in some other wa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rregular verbs in the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981080"/>
          <a:ext cx="8229600" cy="2133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toda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a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yesterda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lee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very soundl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lep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late this morning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the dog in toda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the dog in yesterda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verb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verb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ricky because it has two different forms for the past tense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er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3048120"/>
          <a:ext cx="8077320" cy="2598480"/>
        </p:xfrm>
        <a:graphic>
          <a:graphicData uri="http://schemas.openxmlformats.org/drawingml/2006/table">
            <a:tbl>
              <a:tblPr/>
              <a:tblGrid>
                <a:gridCol w="1828800"/>
                <a:gridCol w="281952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w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, she, it w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 w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s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the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past tense of the verb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e decided that her problem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ot going to stop h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we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w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the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past tense of the verb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e decided that her problem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ot going to stop h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we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w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irregular verbs in the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past tense of the irregular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think) my pronunciation was terrible, but the teacher said I was improv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hou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hin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irregular verbs in the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past tense of the irregular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think) my pronunciation was terrible, but the teacher said I was improv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thou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hin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ypes of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verbs in English ar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gular verb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follow standard rules about what endings to use to express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rregular verb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not follow the regular pattern for end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rregular verbs in the past partici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irregular verbs, the past participle is often different from the past ten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difficult to predict how irregular verbs form the past participle. It may be helpful to refer to a chart or list of irregular past particip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4038480"/>
          <a:ext cx="8839440" cy="1874880"/>
        </p:xfrm>
        <a:graphic>
          <a:graphicData uri="http://schemas.openxmlformats.org/drawingml/2006/table">
            <a:tbl>
              <a:tblPr/>
              <a:tblGrid>
                <a:gridCol w="2133720"/>
                <a:gridCol w="2438280"/>
                <a:gridCol w="426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lke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om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 walke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ome befor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rre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ov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om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ve drive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ome befor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irregular verbs in the past partici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helping verb (a for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and the correct past-participle of the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peop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choose) natural methods of getting more slee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s cho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e cho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ve choo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has choo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irregular verbs in the past partici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the correct helping verb (a form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nd the correct past-participle of the verb in parenthese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peopl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choose) natural methods of getting more slee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has chos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) have chos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have choo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has choo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past participle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particip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by itself, cannot be the main verb of a sentenc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when a past participle is combined with another verb, called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lping 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it can be used to make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sent perfect ten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perfect ten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ve/h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+ past participle = present perfec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sent perfec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n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used for an action that began in the past and either continues into the present or was completed at some unknown time in the pas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sent perfect tens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y ca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as stall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everal times recently. (This sentence says that the stalling began in the past but may continue into the present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st tens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y ca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ll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(This sentence says that the car stalled once and that it’s over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resent perfec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tense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idence ____ (show) that disorientation is a major risk for inexperienced pilo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s sh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h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s sh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resent perfec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tense of the verb in parenthe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idence ____ (show) that disorientation is a major risk for inexperienced pilo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has sh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h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s sh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d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+ past participle = past perfec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a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lus the past participle to make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st perfect ten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ast perfect tense is used for an action that began in the past and ended before some other past ac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st perfect tens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y ca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ad stall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everal times before I called the mechanic. (This sentence says that both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tall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lling the mechani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ppened in the past, but the stalling happened before the calling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t perfec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tense of the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my grandfather retired at the age of seventy, he ____ (hold) many different job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e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d hol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d he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t perfec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tense of the verb in parenthese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my grandfather retired at the age of seventy, he ____ (hold) many different job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e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d hol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had he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gular present-tense ending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sent tens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used for actions that are happening at the same time that they are being written about (the present) and for things that happen all the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-tense, regular verbs end either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or they have no ending adde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ding when the subject i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, she, it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the name of one person or thing. Use no ending for all other subjec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+ past participle = passive voice</a:t>
            </a: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entence that is written in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sive voi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a subject that does not perform an action. Instead, the subject is acted up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create the passive voice, combine a for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th a past particip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siv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newspape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throw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nto the porch. (The subject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ewspap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did not throw itself onto the porch. Some unidentified person threw the newspape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ctive voic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sentences are written in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tive voi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which means that the subject performs the a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tiv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delivery perso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rew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newspaper onto the porch. (The subject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elivery pers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performed the action: he or she threw the newspape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sive vs. active voic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ssive voi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hen no one person performed the action, when you don’t know who performed the action, or when you want to emphasize the receiver of the ac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overuse the passive voice. When you know who performed the action, it is usually preferable to identify the acto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c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andleader chose Kelly to do a sol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ss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Kelly was chosen to do a sol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If you wanted to emphasize Kelly’s being chosen rather than the bandleader’s choice, you might decide to use the passive voice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hanging from active to passive voic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 sent the payment over two weeks ag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, identify the subject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nd the verb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e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k: What word in the sentence is receiving the action?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ayme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ss out the subje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the word that is receiving the action the subject by moving it to the beginning of the sente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 the correct form of the verb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front of the main verb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can either delete the performer of the action or put this information after the verb and the wor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ayment was sent two weeks ago by hi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sive voic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of the following correctly rewrites this sentence in the passive voice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one spilled a drink on this boo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Someone was spilled a drink on this boo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 drink was spilled on this boo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On this book, someone spilled a drin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the passive voic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of the following correctly rewrites this sentence in the passive voice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one spilled a drink on this boo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Someone was spilled a drink on this boo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A drink was spilled on this boo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On this book, someone spilled a drin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nsistency of verb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stency of verb ten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eans that all actions in a sentence that happen (or happened) at the same time are in the same tens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all of the actions happen in the present or happen all the time, use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sent ten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all verbs in the sentenc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all of the actions happened in the past, use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st ten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all verb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you edit your writing, make sure that any time a verb tense changes it is because the action the verb describes happened at a different time. Otherwise, the shift in tenses causes an inconsistenc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nsistency of verb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consistent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movi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art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just as w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ak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ur seats. (The actions both happened at the same time, bu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art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in the past tense,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ak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in the present tens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istent, present tens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movi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ar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just as w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ak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ur seats. (The actions and verb tenses are both in the presen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istent, past tens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movi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art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just as w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ur seats. (The action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art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oo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oth happened in the past, and both are in the past tens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consistent verb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word that fits into the following sentence without causing a shift in verb tens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hony broke the track record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ome to tell his fami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ru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ru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rus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consistent verb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word that fits into the following sentence without causing a shift in verb tens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hony broke the track record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ome to tell his fami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ru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ru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rus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gular verbs in the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057400"/>
          <a:ext cx="8229600" cy="2884320"/>
        </p:xfrm>
        <a:graphic>
          <a:graphicData uri="http://schemas.openxmlformats.org/drawingml/2006/table">
            <a:tbl>
              <a:tblPr/>
              <a:tblGrid>
                <a:gridCol w="1904760"/>
                <a:gridCol w="2971800"/>
                <a:gridCol w="335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 (he, it) jum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child jum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children 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flu last winter at the end of Februar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c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catc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cau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flu last winter at the end of Februar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c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catc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cau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most the whole flu seas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y already, so I thought I would avoid catching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d w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g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d g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most the whole flu seas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y already, so I thought I would avoid catching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d w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g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had g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ck for more than three wee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w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was 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ck for more than three wee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w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was 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rom the flu, I got bronchitis and an ear inf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m recove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d recov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recov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rom the flu, I got bronchitis and an ear inf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m recove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d recov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recov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____ taking no chances next flu season; I plan to get a flu sho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verb problem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the form of the verb that will complete this sentence correct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____ taking no chances next flu season; I plan to get a flu sho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present-tense 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verb for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roommate (cook / cooks) us breakfast on Sunday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c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coo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ing present-tense regular verb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the correct verb for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roommate (cook / cooks) us breakfast on Sunday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c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coo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gular past-tense ending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st ten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used for actions that have already happene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ding is needed on all regular verbs in the past tens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esent tense and past tense verb ending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286000"/>
          <a:ext cx="8229600" cy="2438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avoid h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avoid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h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help 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help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walks fas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walk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fas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4:23:06Z</dcterms:created>
  <dc:creator>BSM</dc:creator>
  <dc:description/>
  <dc:language>en-US</dc:language>
  <cp:lastModifiedBy>BSM</cp:lastModifiedBy>
  <dcterms:modified xsi:type="dcterms:W3CDTF">2008-02-14T16:10:35Z</dcterms:modified>
  <cp:revision>206</cp:revision>
  <dc:subject/>
  <dc:title>Verb Tense</dc:title>
</cp:coreProperties>
</file>